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5A24-A0DB-4C99-9827-55B26B1F8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1447920"/>
            <a:ext cx="739116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7560" y="3517560"/>
            <a:ext cx="739116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283B-A250-479C-B484-12C122A9B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7560" y="1447920"/>
            <a:ext cx="360684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35120" y="1447920"/>
            <a:ext cx="360684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7560" y="3517560"/>
            <a:ext cx="360684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35120" y="3517560"/>
            <a:ext cx="360684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26DF-E6C8-4708-9C27-A0B62E012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7560" y="1447920"/>
            <a:ext cx="237960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946680" y="1447920"/>
            <a:ext cx="237960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45440" y="1447920"/>
            <a:ext cx="237960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7560" y="3517560"/>
            <a:ext cx="237960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946680" y="3517560"/>
            <a:ext cx="237960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45440" y="3517560"/>
            <a:ext cx="237960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8C94-F79A-43B7-90EF-FEF82B2BF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DAB75-7813-4EB7-AB70-1B502F18B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447560" y="1447920"/>
            <a:ext cx="739116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29C11-1124-469A-A701-DA381AB0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47560" y="1447920"/>
            <a:ext cx="73911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FEC40-884D-42AB-ACA0-A46885D84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7560" y="1447920"/>
            <a:ext cx="3606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35120" y="1447920"/>
            <a:ext cx="3606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64493-CEEB-48A4-9E1E-45726A5B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C99AD-86FA-4CB3-B23A-ED69ED4FA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DE2D3-429C-4E46-9179-BC2E7E39B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560" y="1447920"/>
            <a:ext cx="360684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35120" y="1447920"/>
            <a:ext cx="3606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47560" y="3517560"/>
            <a:ext cx="360684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C3E07-B64B-4051-AD10-779C6CFD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7560" y="1447920"/>
            <a:ext cx="739116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19C1-7A75-4D46-B6AD-FB05110E9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47560" y="1447920"/>
            <a:ext cx="3606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35120" y="1447920"/>
            <a:ext cx="360684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235120" y="3517560"/>
            <a:ext cx="360684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0A5C5-6A19-4192-B33D-B90797FE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1447920"/>
            <a:ext cx="360684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35120" y="1447920"/>
            <a:ext cx="360684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47560" y="3517560"/>
            <a:ext cx="739116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3A14C-9EC2-45FA-80A1-BB9F74A5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47560" y="1447920"/>
            <a:ext cx="739116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447560" y="3517560"/>
            <a:ext cx="739116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65987-F796-44CF-9B11-8CAE7293E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47560" y="1447920"/>
            <a:ext cx="360684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35120" y="1447920"/>
            <a:ext cx="360684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447560" y="3517560"/>
            <a:ext cx="360684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235120" y="3517560"/>
            <a:ext cx="360684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786DF-F8B4-42E6-8AC0-0BD12DC42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47560" y="1447920"/>
            <a:ext cx="237960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946680" y="1447920"/>
            <a:ext cx="237960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445440" y="1447920"/>
            <a:ext cx="237960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447560" y="3517560"/>
            <a:ext cx="237960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946680" y="3517560"/>
            <a:ext cx="237960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445440" y="3517560"/>
            <a:ext cx="237960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D4643-1D3A-4914-9214-FE5768A53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7560" y="1447920"/>
            <a:ext cx="73911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4F1D-A9F1-4D52-854B-3E54C5E4C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7560" y="1447920"/>
            <a:ext cx="3606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35120" y="1447920"/>
            <a:ext cx="3606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A3B8-F74A-46D3-932C-19A7D97A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6826-754D-4AF2-8A39-E659AA1A3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90EB-CE4E-4171-8229-43CE09D8D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7560" y="1447920"/>
            <a:ext cx="360684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35120" y="1447920"/>
            <a:ext cx="3606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7560" y="3517560"/>
            <a:ext cx="360684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FC5D-2C63-4FE1-95AE-CEBB385B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560" y="1447920"/>
            <a:ext cx="3606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5120" y="1447920"/>
            <a:ext cx="360684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35120" y="3517560"/>
            <a:ext cx="360684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A947-96BA-4DD5-98C2-63A7B31F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560" y="1447920"/>
            <a:ext cx="360684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35120" y="1447920"/>
            <a:ext cx="360684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7560" y="3517560"/>
            <a:ext cx="739116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F831-CBB0-42D4-95B4-91052BF8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bs-wiki.de/mediawiki/index.php/Hauptseite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03160" y="1244520"/>
            <a:ext cx="822672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-14040" bIns="-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447560" y="1447920"/>
            <a:ext cx="73911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99"/>
              </a:spcBef>
              <a:buClr>
                <a:srgbClr val="33cc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799"/>
              </a:spcBef>
              <a:buClr>
                <a:srgbClr val="8cfe0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973520" indent="-2178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973520" indent="-2178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973520" indent="-2178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Projekt Wi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0512C-ED36-4AAA-A561-196C4C056969}" type="slidenum">
              <a:rPr b="0" lang="de-DE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Bs-wiki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33200" y="304920"/>
            <a:ext cx="1543320" cy="141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774800" y="762120"/>
            <a:ext cx="69264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Projekt Wi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5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6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8cfe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cfe0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10FC-E97E-44EE-AED4-CB7B1F42800B}" type="slidenum">
              <a:rPr b="0" lang="de-DE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de.wikipedia.org/wiki/Hauptseite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bs-wiki.de/mediawiki/index.php/Kraftfahrzeugmechatroniker" TargetMode="External"/><Relationship Id="rId2" Type="http://schemas.openxmlformats.org/officeDocument/2006/relationships/hyperlink" Target="http://www.bs-wiki.de/mediawiki/index.php/Kraftfahrzeugmechatroniker" TargetMode="External"/><Relationship Id="rId3" Type="http://schemas.openxmlformats.org/officeDocument/2006/relationships/hyperlink" Target="http://www.bs-wiki.de/mediawiki/index.php/Kategorie:Entwicklung_und_Konstruktion" TargetMode="External"/><Relationship Id="rId4" Type="http://schemas.openxmlformats.org/officeDocument/2006/relationships/hyperlink" Target="http://www.bs-wiki.de/mediawiki/index.php/Benutzer:Anthony" TargetMode="External"/><Relationship Id="rId5" Type="http://schemas.openxmlformats.org/officeDocument/2006/relationships/hyperlink" Target="http://www.bs-wiki.de/mediawiki/index.php/FSM2-2003" TargetMode="External"/><Relationship Id="rId6" Type="http://schemas.openxmlformats.org/officeDocument/2006/relationships/hyperlink" Target="http://www.bs-wiki.de/mediawiki/index.php/Ausbildungsbetriebe" TargetMode="External"/><Relationship Id="rId7" Type="http://schemas.openxmlformats.org/officeDocument/2006/relationships/hyperlink" Target="http://www.bs-wiki.de/mediawiki/index.php/Schulrecht" TargetMode="External"/><Relationship Id="rId8" Type="http://schemas.openxmlformats.org/officeDocument/2006/relationships/hyperlink" Target="http://www.bs-wiki.de/mediawiki/index.php/Kategorie:Arbeitsbl&#228;tter" TargetMode="External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Startbil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-304920" y="-152280"/>
            <a:ext cx="9448920" cy="716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Tournesol" descr=""/>
          <p:cNvPicPr/>
          <p:nvPr/>
        </p:nvPicPr>
        <p:blipFill>
          <a:blip r:embed="rId1"/>
          <a:stretch/>
        </p:blipFill>
        <p:spPr>
          <a:xfrm>
            <a:off x="1828800" y="380880"/>
            <a:ext cx="5578560" cy="563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9861-04F3-4CB6-BF1D-00DEED4CA14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Log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523880" y="1828800"/>
            <a:ext cx="632484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3240">
                  <a:solidFill>
                    <a:srgbClr val="5f5f5f"/>
                  </a:solidFill>
                  <a:miter/>
                </a:ln>
                <a:solidFill>
                  <a:srgbClr val="333399"/>
                </a:solidFill>
                <a:effectLst>
                  <a:outerShdw dist="53966" dir="2700000" blurRad="0" rotWithShape="0">
                    <a:srgbClr val="dddddd"/>
                  </a:outerShdw>
                </a:effectLst>
                <a:latin typeface="Arial Unicode MS"/>
              </a:rPr>
              <a:t>[[      ]]</a:t>
            </a:r>
            <a:endParaRPr b="1" lang="en-US" sz="9600" spc="1" strike="noStrike">
              <a:ln w="3240">
                <a:solidFill>
                  <a:srgbClr val="5f5f5f"/>
                </a:solidFill>
                <a:miter/>
              </a:ln>
              <a:solidFill>
                <a:srgbClr val="333399"/>
              </a:solidFill>
              <a:effectLst>
                <a:outerShdw dist="53966" dir="2700000" blurRad="0" rotWithShape="0">
                  <a:srgbClr val="dddddd"/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514600" y="4114800"/>
            <a:ext cx="426708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24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3333cc"/>
                    </a:gs>
                  </a:gsLst>
                  <a:lin ang="5400000"/>
                </a:gradFill>
                <a:effectLst>
                  <a:outerShdw dist="40186" dir="20503642" blurRad="0" rotWithShape="0">
                    <a:srgbClr val="dddddd"/>
                  </a:outerShdw>
                </a:effectLst>
                <a:latin typeface="Arial Unicode MS"/>
              </a:rPr>
              <a:t>Wissen teilen.</a:t>
            </a:r>
            <a:endParaRPr b="1" lang="en-US" sz="4000" spc="1" strike="noStrike">
              <a:ln w="324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3333cc"/>
                  </a:gs>
                </a:gsLst>
                <a:lin ang="5400000"/>
              </a:gradFill>
              <a:effectLst>
                <a:outerShdw dist="40186" dir="20503642" blurRad="0" rotWithShape="0">
                  <a:srgbClr val="dddddd"/>
                </a:outerShdw>
              </a:effectLst>
              <a:latin typeface="Arial Unicode MS"/>
              <a:ea typeface="Arial Unicode MS"/>
            </a:endParaRPr>
          </a:p>
        </p:txBody>
      </p:sp>
      <p:pic>
        <p:nvPicPr>
          <p:cNvPr id="101" name="Tournesol" descr=""/>
          <p:cNvPicPr/>
          <p:nvPr/>
        </p:nvPicPr>
        <p:blipFill>
          <a:blip r:embed="rId1"/>
          <a:stretch/>
        </p:blipFill>
        <p:spPr>
          <a:xfrm>
            <a:off x="1828800" y="380880"/>
            <a:ext cx="5578560" cy="5635800"/>
          </a:xfrm>
          <a:prstGeom prst="rect">
            <a:avLst/>
          </a:prstGeom>
          <a:ln w="0">
            <a:noFill/>
          </a:ln>
          <a:effectLst>
            <a:outerShdw dist="77353" dir="562478" blurRad="0" rotWithShape="0">
              <a:srgbClr val="eaeaea"/>
            </a:outerShdw>
          </a:effectLst>
        </p:spPr>
      </p:pic>
      <p:sp>
        <p:nvSpPr>
          <p:cNvPr id="102" name=""/>
          <p:cNvSpPr txBox="1"/>
          <p:nvPr/>
        </p:nvSpPr>
        <p:spPr>
          <a:xfrm>
            <a:off x="2300400" y="1038240"/>
            <a:ext cx="47242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240">
                  <a:solidFill>
                    <a:srgbClr val="5f5f5f"/>
                  </a:solidFill>
                  <a:miter/>
                </a:ln>
                <a:solidFill>
                  <a:srgbClr val="ff0000"/>
                </a:solidFill>
                <a:effectLst>
                  <a:outerShdw dist="45929" dir="19571123" blurRad="0" rotWithShape="0">
                    <a:srgbClr val="dddddd"/>
                  </a:outerShdw>
                </a:effectLst>
                <a:latin typeface="Arial Unicode MS"/>
              </a:rPr>
              <a:t>Projekt Wiki</a:t>
            </a:r>
            <a:endParaRPr b="1" lang="en-US" sz="2400" spc="1" strike="noStrike">
              <a:ln w="3240">
                <a:solidFill>
                  <a:srgbClr val="5f5f5f"/>
                </a:solidFill>
                <a:miter/>
              </a:ln>
              <a:solidFill>
                <a:srgbClr val="ff0000"/>
              </a:solidFill>
              <a:effectLst>
                <a:outerShdw dist="45929" dir="19571123" blurRad="0" rotWithShape="0">
                  <a:srgbClr val="dddddd"/>
                </a:outerShdw>
              </a:effectLst>
              <a:latin typeface="Arial Unicode MS"/>
              <a:ea typeface="Arial Unicode MS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067280" y="104760"/>
          <a:ext cx="1218960" cy="72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67280" y="104760"/>
                    <a:ext cx="121896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586A-3C53-45A6-881C-C5A9B66C3EF3}" type="slidenum">
              <a:t>2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666520" y="152280"/>
            <a:ext cx="4496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Gliederu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47560" y="1447920"/>
            <a:ext cx="73911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Was ist ein Wiki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Warum ein Wiki an der BBS Winse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Welche Anwendungsbeispiele &amp; Erfahrungswerte liegen vo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Wie kann ich mitmache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Hilfe" descr="Bild:Hilfe.png"/>
          <p:cNvPicPr/>
          <p:nvPr/>
        </p:nvPicPr>
        <p:blipFill>
          <a:blip r:embed="rId1"/>
          <a:srcRect l="0" t="0" r="60527" b="0"/>
          <a:stretch/>
        </p:blipFill>
        <p:spPr>
          <a:xfrm>
            <a:off x="7894800" y="30492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3524-1780-473A-A154-204D23E178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Keyboard" descr=""/>
          <p:cNvPicPr/>
          <p:nvPr/>
        </p:nvPicPr>
        <p:blipFill>
          <a:blip r:embed="rId1"/>
          <a:stretch/>
        </p:blipFill>
        <p:spPr>
          <a:xfrm>
            <a:off x="5410080" y="4267080"/>
            <a:ext cx="3703680" cy="24228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447560" y="195552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Wiki = hawaiianisch "schnell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Internetseiten, die mit einfachsten Mitteln erstellt werden könn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Grundprinzip: Alle Nutzer können Informationen lesen </a:t>
            </a: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und bearbeiten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Beispiel: </a:t>
            </a:r>
            <a:r>
              <a:rPr b="0" lang="de-DE" sz="2800" spc="-1" strike="noStrike" u="sng">
                <a:solidFill>
                  <a:srgbClr val="33ccff"/>
                </a:solidFill>
                <a:uFillTx/>
                <a:latin typeface="Tahoma"/>
                <a:hlinkClick r:id="rId2"/>
              </a:rPr>
              <a:t>Wikip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1790640" y="477684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Nachtei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473120" y="1485720"/>
            <a:ext cx="53992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Tahoma"/>
              </a:rPr>
              <a:t>Was ist ein Wiki?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764A-BC7D-4165-905C-AE28F07A1E7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447560" y="1447920"/>
            <a:ext cx="73911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Tahoma"/>
              </a:rPr>
              <a:t>Warum ein Wiki an der BBS Winsen?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Element für Unterrichtsgestaltu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Förderung der Schülereigenaktivität, individuelle Förderung mögli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Transparenz von Inhalten, Strukturen und Metho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Informations-P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bbs_pic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5410080" y="3846600"/>
            <a:ext cx="3733920" cy="3011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8C3A-0284-4297-908E-5D85DBE714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447920" y="14479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Anwendungsbeispiele &amp; Erfahrungswer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BS: </a:t>
            </a:r>
            <a:r>
              <a:rPr b="0" lang="de-DE" sz="2800" spc="-1" strike="noStrike" u="sng">
                <a:solidFill>
                  <a:srgbClr val="33ccff"/>
                </a:solidFill>
                <a:uFillTx/>
                <a:latin typeface="Tahoma"/>
                <a:hlinkClick r:id="rId1"/>
              </a:rPr>
              <a:t>Kfz-</a:t>
            </a:r>
            <a:r>
              <a:rPr b="0" lang="de-DE" sz="2800" spc="-1" strike="noStrike" u="sng">
                <a:solidFill>
                  <a:srgbClr val="33ccff"/>
                </a:solidFill>
                <a:uFillTx/>
                <a:latin typeface="Tahoma"/>
                <a:hlinkClick r:id="rId2"/>
              </a:rPr>
              <a:t>Mechatroniker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FG: Chem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FS-Metall: </a:t>
            </a:r>
            <a:r>
              <a:rPr b="0" lang="de-DE" sz="2800" spc="-1" strike="noStrike" u="sng">
                <a:solidFill>
                  <a:srgbClr val="33ccff"/>
                </a:solidFill>
                <a:uFillTx/>
                <a:latin typeface="Tahoma"/>
                <a:hlinkClick r:id="rId3"/>
              </a:rPr>
              <a:t>Entwicklung &amp; Konstruk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33ccff"/>
                </a:solidFill>
                <a:uFillTx/>
                <a:latin typeface="Tahoma"/>
                <a:hlinkClick r:id="rId4"/>
              </a:rPr>
              <a:t>Schüler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- &amp; </a:t>
            </a:r>
            <a:r>
              <a:rPr b="0" lang="de-DE" sz="2800" spc="-1" strike="noStrike" u="sng">
                <a:solidFill>
                  <a:srgbClr val="33ccff"/>
                </a:solidFill>
                <a:uFillTx/>
                <a:latin typeface="Tahoma"/>
                <a:hlinkClick r:id="rId5"/>
              </a:rPr>
              <a:t>Klassenseit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Linklisten, z. B. </a:t>
            </a:r>
            <a:r>
              <a:rPr b="0" lang="de-DE" sz="2800" spc="-1" strike="noStrike" u="sng">
                <a:solidFill>
                  <a:srgbClr val="33ccff"/>
                </a:solidFill>
                <a:uFillTx/>
                <a:latin typeface="Tahoma"/>
                <a:hlinkClick r:id="rId6"/>
              </a:rPr>
              <a:t>Ausbildungsbetriebe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de-DE" sz="2800" spc="-1" strike="noStrike" u="sng">
                <a:solidFill>
                  <a:srgbClr val="33ccff"/>
                </a:solidFill>
                <a:uFillTx/>
                <a:latin typeface="Tahoma"/>
                <a:hlinkClick r:id="rId7"/>
              </a:rPr>
              <a:t>Schulrecht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, Wiki-Ind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33ccff"/>
                </a:solidFill>
                <a:uFillTx/>
                <a:latin typeface="Tahoma"/>
                <a:hlinkClick r:id="rId8"/>
              </a:rPr>
              <a:t>Arbeitsblätter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hinterleg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6B7C-540E-465B-B81B-CA6B60BB694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Schilf" descr=""/>
          <p:cNvPicPr/>
          <p:nvPr/>
        </p:nvPicPr>
        <p:blipFill>
          <a:blip r:embed="rId1"/>
          <a:srcRect l="0" t="0" r="10129" b="11049"/>
          <a:stretch/>
        </p:blipFill>
        <p:spPr>
          <a:xfrm>
            <a:off x="1706400" y="1336680"/>
            <a:ext cx="7437600" cy="55213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828800" y="14479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ffffff"/>
                </a:solidFill>
                <a:latin typeface="Tahoma"/>
              </a:rPr>
              <a:t>Mitmachen!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selbst ausprobieren: Wiki-Hilfe nutz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Teilnahme an schulinterner Lehrer-Fortbildung (SchiL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2E51-1007-471C-B4F8-EB959AF2BE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-304920" y="-152280"/>
            <a:ext cx="9448920" cy="716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Tournesol" descr=""/>
          <p:cNvPicPr/>
          <p:nvPr/>
        </p:nvPicPr>
        <p:blipFill>
          <a:blip r:embed="rId1"/>
          <a:stretch/>
        </p:blipFill>
        <p:spPr>
          <a:xfrm>
            <a:off x="1828800" y="380880"/>
            <a:ext cx="5578560" cy="56358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95480" y="350496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Vielen Dank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68CF-AF45-4A73-9248-BB04BCCEA8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1T13:55:57Z</dcterms:created>
  <dc:creator>Detlef Giesler</dc:creator>
  <dc:description/>
  <dc:language>en-US</dc:language>
  <cp:lastModifiedBy>a</cp:lastModifiedBy>
  <dcterms:modified xsi:type="dcterms:W3CDTF">2007-02-14T16:11:01Z</dcterms:modified>
  <cp:revision>56</cp:revision>
  <dc:subject/>
  <dc:title>Projekt Wiki an der BBS Winsen</dc:title>
</cp:coreProperties>
</file>